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44.png" ContentType="image/png"/>
  <Override PartName="/ppt/media/image9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36.png" ContentType="image/png"/>
  <Override PartName="/ppt/media/image31.jpeg" ContentType="image/jpeg"/>
  <Override PartName="/ppt/media/image25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10.png" ContentType="image/png"/>
  <Override PartName="/ppt/media/image39.jpeg" ContentType="image/jpeg"/>
  <Override PartName="/ppt/media/image8.jpeg" ContentType="image/jpeg"/>
  <Override PartName="/ppt/media/image38.png" ContentType="image/png"/>
  <Override PartName="/ppt/media/image4.jpeg" ContentType="image/jpeg"/>
  <Override PartName="/ppt/media/image40.png" ContentType="image/png"/>
  <Override PartName="/ppt/media/image5.png" ContentType="image/png"/>
  <Override PartName="/ppt/media/image35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9D57-DD30-4E94-9F84-A77310D4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D29-E09F-4D99-8F7D-D09F3592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6AB-3055-43B9-8578-42C7A59E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7EA-B320-4E82-A662-AE98C8DB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CB2C-38AE-4C17-A953-2BC1AED6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5E4A-113B-4D26-BA2C-6BF1FD7F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551-8B30-4BE4-B11A-94E4C960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AF4-6BCA-4AE5-8EEE-AE053E24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705-AD08-437F-951F-B3363FD5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6BB-83D1-487C-91A4-5D348F5F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DCC-FD63-478F-8865-5FE450B5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BDC-8318-402D-BF47-CC1931EA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239D-8F08-4517-98F4-3F151A820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138400" y="1295280"/>
            <a:ext cx="48672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IMALE DIN MAR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 OCEA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809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4267080" cy="3048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4800600"/>
            <a:ext cx="45147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ULPEA DE MAR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25146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ieste in apropierea coastelor marilor europ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e 1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0" b="5407"/>
          <a:stretch/>
        </p:blipFill>
        <p:spPr>
          <a:xfrm>
            <a:off x="4572000" y="320040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0" t="1461" r="1929" b="5896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876920" y="304920"/>
            <a:ext cx="3809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RPIL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1447920"/>
            <a:ext cx="4191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re organe ce produc curent electric de 70-80 vol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Traieste in marile calde si temperate.Are 60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358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0" t="0" r="0" b="10410"/>
          <a:stretch/>
        </p:blipFill>
        <p:spPr>
          <a:xfrm>
            <a:off x="5715000" y="3581280"/>
            <a:ext cx="3429000" cy="3276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 rot="5400000">
            <a:off x="2590200" y="297144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ETACE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600200"/>
            <a:ext cx="426744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nt mamifere adaptate exclusiv la viata acva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rpul lor este pisci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ntre cele mai reprezentative : balena, casalotul, delfin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3197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00400" y="3200400"/>
            <a:ext cx="5943600" cy="3657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>
            <a:lum contrast="42000"/>
          </a:blip>
          <a:srcRect l="0" t="0" r="0" b="17469"/>
          <a:stretch/>
        </p:blipFill>
        <p:spPr>
          <a:xfrm>
            <a:off x="0" y="0"/>
            <a:ext cx="31910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 rot="5400000">
            <a:off x="1537920" y="2729160"/>
            <a:ext cx="4114800" cy="63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BALEN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581280"/>
            <a:ext cx="48769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e cel mai mare mamifer, lung de 33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gura are niste lame cornoase( fanoa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este in marile arctice si antarctice( Balena albastr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74" dur="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75" dur="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0" t="2620" r="0" b="2620"/>
          <a:stretch/>
        </p:blipFill>
        <p:spPr>
          <a:xfrm>
            <a:off x="0" y="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3079" t="7655" r="4482" b="7655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876920" y="304920"/>
            <a:ext cx="3429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SALOTUL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295280"/>
            <a:ext cx="41907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re dinti pe maxilarul inferior si se hraneste cu cefalop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raieste in Oceanul Atlan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re 10-18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38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0" t="0" r="0" b="9753"/>
          <a:stretch/>
        </p:blipFill>
        <p:spPr>
          <a:xfrm>
            <a:off x="5638680" y="0"/>
            <a:ext cx="350532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5638680" cy="2971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200400" y="304920"/>
            <a:ext cx="4343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LFINUL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1523880"/>
            <a:ext cx="518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Este unul din cele mai inteligente si simpatice animale.Traieste in toate marile, urmaruind adesea, in carduri vapoarele.Are dinti pe ambele maxilare.Are 2,50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7510" r="0" b="5862"/>
          <a:stretch/>
        </p:blipFill>
        <p:spPr>
          <a:xfrm>
            <a:off x="5943600" y="0"/>
            <a:ext cx="3200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90720" y="2133720"/>
            <a:ext cx="4114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MIFERE ADAPTAT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IATA MARIN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0" b="5713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419720" cy="3429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5181480" y="457200"/>
            <a:ext cx="28195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OC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676520"/>
            <a:ext cx="685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ieste in nordul oceanelor Atlantic si Pa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aste si isi creste puii pe us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e 2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590920" y="685800"/>
            <a:ext cx="38862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ORS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590920"/>
            <a:ext cx="5943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aninii de pe maxilarul superior sunt mai dezvolt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raieste in marile nord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re 4,50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3276720" cy="238104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562720" y="4038480"/>
            <a:ext cx="3081240" cy="213372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 rot="5400000">
            <a:off x="-748080" y="1814400"/>
            <a:ext cx="33526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STURIONI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685800"/>
            <a:ext cx="74674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nt pesti cu scheletul cartilaginos, in mare masura.Bolta cutiei craniene este oso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Dintre cei mai reprezentativi sturioni, intalnim :pastruga, nisetrul, morunul, cega, sip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3809880"/>
            <a:ext cx="4419720" cy="304812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  <p:sp>
        <p:nvSpPr>
          <p:cNvPr id="50" name=""/>
          <p:cNvSpPr txBox="1"/>
          <p:nvPr/>
        </p:nvSpPr>
        <p:spPr>
          <a:xfrm>
            <a:off x="914400" y="304920"/>
            <a:ext cx="26668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STRUG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37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Este un peste marin care isi depune icrele in apele dul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In tara noastra le depune in Dun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Icrele sunt neg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Pastruga poate atinge dimensiunea de 1,50-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4495680" cy="19051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>
            <a:lum contrast="18000"/>
          </a:blip>
          <a:srcRect l="0" t="3723" r="6488" b="3723"/>
          <a:stretch/>
        </p:blipFill>
        <p:spPr>
          <a:xfrm>
            <a:off x="0" y="0"/>
            <a:ext cx="4495680" cy="22860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rcRect l="7642" t="4872" r="3177" b="7308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 rot="5400000">
            <a:off x="2837880" y="2952720"/>
            <a:ext cx="41148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MORUNU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90920"/>
            <a:ext cx="4114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ste un peste marin care isi depune icrele in apele dul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ste cel mai mare peste intalnit la no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re 5-9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410080" y="914400"/>
            <a:ext cx="2743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ISETRUL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590920"/>
            <a:ext cx="39621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te un peste intalnit in Marea Neagra si Marea Casp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si depune icrele in apele dulci, iar toamna revine in m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e  2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contrast="12000"/>
          </a:blip>
          <a:srcRect l="0" t="0" r="0" b="5346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5105520"/>
            <a:ext cx="525780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0" t="26496" r="0" b="0"/>
          <a:stretch/>
        </p:blipFill>
        <p:spPr>
          <a:xfrm>
            <a:off x="0" y="0"/>
            <a:ext cx="5257800" cy="2209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867280" y="1143000"/>
            <a:ext cx="23623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EG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590920"/>
            <a:ext cx="4495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raieste in raurile din sud-estul Europei, bazinul Marii Neg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La noi in intalnim in Dunare,, Tisa, M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re 0,60-1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3657600" cy="37339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3124080"/>
            <a:ext cx="5410080" cy="37339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69" name=""/>
          <p:cNvSpPr txBox="1"/>
          <p:nvPr/>
        </p:nvSpPr>
        <p:spPr>
          <a:xfrm>
            <a:off x="914400" y="457200"/>
            <a:ext cx="15336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IPUL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905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l intalnim in Oceanul Atlantic, Marea Mediterana si Marea Nordului.Are 1,50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2210040" cy="175248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>
            <a:lum contrast="12000"/>
          </a:blip>
          <a:srcRect l="0" t="0" r="0" b="5872"/>
          <a:stretch/>
        </p:blipFill>
        <p:spPr>
          <a:xfrm>
            <a:off x="6553080" y="3886200"/>
            <a:ext cx="1752840" cy="243828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sp>
        <p:nvSpPr>
          <p:cNvPr id="74" name=""/>
          <p:cNvSpPr txBox="1"/>
          <p:nvPr/>
        </p:nvSpPr>
        <p:spPr>
          <a:xfrm>
            <a:off x="1295280" y="1371600"/>
            <a:ext cx="60199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STI CU SCHEL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RTILAGIN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952880" y="3276720"/>
            <a:ext cx="4191120" cy="3581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952880" y="0"/>
            <a:ext cx="4191120" cy="3276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762120" y="380880"/>
            <a:ext cx="36576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CHINUL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267080"/>
            <a:ext cx="4572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este in Marea Mediterana si Oceanul Atlan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 6-8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24:09Z</dcterms:created>
  <dc:creator>useer</dc:creator>
  <dc:description/>
  <dc:language>en-US</dc:language>
  <cp:lastModifiedBy>useer</cp:lastModifiedBy>
  <dcterms:modified xsi:type="dcterms:W3CDTF">2006-03-15T09:21:41Z</dcterms:modified>
  <cp:revision>6</cp:revision>
  <dc:subject/>
  <dc:title>Diapozitivul 1</dc:title>
</cp:coreProperties>
</file>